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DBD-12A5-490F-8D75-A6062949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A3D-348A-4B22-A122-85ADA4B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222-E9F9-44B8-AC0A-3ABA1DA7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2EC-ADDD-48C2-A515-619C884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45D-4279-4C9C-934F-7EB93BE7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B4D-7F80-4CD4-88C0-78FCBC27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B49-0564-4F07-8B39-D4E3B5AB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E10-5C9E-4246-BC6B-3E66065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4DA-59DD-4615-A5D6-03EFCD19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B40-E8F6-4A16-B28E-B406951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1F0-BDA9-4516-9449-052BF41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AF1-9077-4217-88D2-B43BFBA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9018-B684-4B16-94B9-7D518548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4875120" y="1446120"/>
            <a:ext cx="709560" cy="709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5a3</cp:lastModifiedBy>
  <dcterms:modified xsi:type="dcterms:W3CDTF">2012-06-19T11:27:40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